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88349-537A-44C6-9D2E-F6726782A6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822492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6840" y="4225320"/>
            <a:ext cx="822492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B5799-741D-483E-8338-7D922EBEB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684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172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8804B-D491-405F-8A34-38A31A8A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7840" y="193500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18840" y="193500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6840" y="422532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7840" y="422532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18840" y="422532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2B578-E5A1-4051-BF74-0526768B75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872C54-7351-40EA-9C9C-3C85C9B176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6840" y="1935000"/>
            <a:ext cx="8224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DD4EAF-6FEA-480F-A798-EE6D4E0CA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822492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09C77D-27C9-46D8-8AC0-AE035F4CD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52113E-1973-46D8-98C4-639C38A0B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49CA22-5D03-4EA2-9311-5A124E3E5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6840" y="7048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1D2A70-2DA6-45D4-94BE-08D90A161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818798-9D94-48E6-AE4E-FDBEEED93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6840" y="1935000"/>
            <a:ext cx="8224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F2B7F-F17A-4BE1-B351-AC4E60934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172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72432C-26D6-482E-B33F-748DA56BF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6840" y="4225320"/>
            <a:ext cx="822492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8221FB-C5DD-49D9-AD3E-CD162809F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822492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6840" y="4225320"/>
            <a:ext cx="822492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11EA2C-BF17-4BE9-BC54-5636CDEA9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684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172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3DD367-1E78-47C9-8B53-99408117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7840" y="193500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18840" y="193500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6840" y="422532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7840" y="422532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18840" y="422532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C0BF0A-2504-4D08-9B48-26CB5C635B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FB95F-6F89-41F2-803B-B344A6CF0C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6840" y="1935000"/>
            <a:ext cx="8224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402BD-002B-47DA-8C1F-2C5D7F294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822492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EAE66-3629-4127-A764-B34ECA0AE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5AAB9-E6A7-420A-A84E-7BD61A92A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BB3F9-6061-4393-9C6E-3297309EC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822492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FEC98-1771-4B43-8AB7-AE2DEAEEA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6840" y="7048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EF432-9F46-459E-8DED-CF8F63E6A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684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18863-9D41-46D4-9A47-8D7ABB678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172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D841B-A365-44DD-B486-78C4AC048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6840" y="4225320"/>
            <a:ext cx="822492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F8599-1591-4E2C-A69E-571D40BCA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822492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6840" y="4225320"/>
            <a:ext cx="822492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BCB87-962E-4664-AB92-54379CEAF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172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23FFD-A511-4304-A9F0-3CBA438D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7840" y="193500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18840" y="193500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6840" y="422532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7840" y="422532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18840" y="422532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5AF64-1DC6-4AD3-8052-9B534F4F20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1AF1AE-EFC7-46F1-A5C1-5EA08F4521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6840" y="1935000"/>
            <a:ext cx="8224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B0B1B6-C250-415D-B740-281ED244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822492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87FD3C-FC02-4FF3-9F12-85ECF5B27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EE286-67DE-43EF-B8A3-49096A26F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7ED459-ABCB-4E92-AABC-86C275E62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04D3FE-E7DE-497C-A20B-597F56C73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6840" y="7048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5651D3-B961-44F0-8243-E31A75ED9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684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497784-D423-4118-AB68-D8D14F71F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172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E5B3C7-B423-4835-A89F-47AA55D01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6840" y="4225320"/>
            <a:ext cx="822492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913966-C8FF-432B-9806-6F2162B6F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822492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6840" y="4225320"/>
            <a:ext cx="822492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54D1E8-8C02-4D23-8F02-A0B0ACBA7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684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172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4CB087-74F2-4647-93CB-4062FFCF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7840" y="193500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18840" y="193500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6840" y="422532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7840" y="422532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18840" y="422532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CB0226-6D64-47F6-838D-2E7B85344E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E5A81-1452-453E-8BE4-4486C8314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6840" y="7048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D85F0-72ED-4052-908C-B9386F2A6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D5161-F272-4628-9D20-4C7A3C482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172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F22FE-E391-464D-8C6F-E25850851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225320"/>
            <a:ext cx="822492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7227C-7118-4857-80D4-C7DE4ACF5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0"/>
                </a:srgbClr>
              </a:gs>
              <a:gs pos="100000">
                <a:srgbClr val="00ebf8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0066b3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0"/>
                </a:srgbClr>
              </a:gs>
              <a:gs pos="100000">
                <a:srgbClr val="009be5">
                  <a:alpha val="3333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0066b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935000"/>
            <a:ext cx="822492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i="1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0066b3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924680" y="6356160"/>
            <a:ext cx="75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i="1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4AE6C8-766E-4633-9C71-64046D2DCBC7}" type="slidenum">
              <a:rPr b="0" i="1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19080" y="203040"/>
            <a:ext cx="9175680" cy="642960"/>
            <a:chOff x="-19080" y="203040"/>
            <a:chExt cx="9175680" cy="642960"/>
          </a:xfrm>
        </p:grpSpPr>
        <p:grpSp>
          <p:nvGrpSpPr>
            <p:cNvPr id="8" name=""/>
            <p:cNvGrpSpPr/>
            <p:nvPr/>
          </p:nvGrpSpPr>
          <p:grpSpPr>
            <a:xfrm>
              <a:off x="-19080" y="203040"/>
              <a:ext cx="9158400" cy="642960"/>
              <a:chOff x="-19080" y="203040"/>
              <a:chExt cx="9158400" cy="642960"/>
            </a:xfrm>
          </p:grpSpPr>
          <p:pic>
            <p:nvPicPr>
              <p:cNvPr id="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6080" cy="64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20000">
                <a:off x="-18720" y="479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i="1" lang="en-US" sz="1600" spc="-1" strike="noStrike">
                  <a:solidFill>
                    <a:srgbClr val="0066b3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"/>
            <p:cNvGrpSpPr/>
            <p:nvPr/>
          </p:nvGrpSpPr>
          <p:grpSpPr>
            <a:xfrm>
              <a:off x="-19080" y="247680"/>
              <a:ext cx="9175680" cy="557280"/>
              <a:chOff x="-19080" y="247680"/>
              <a:chExt cx="9175680" cy="557280"/>
            </a:xfrm>
          </p:grpSpPr>
          <p:pic>
            <p:nvPicPr>
              <p:cNvPr id="1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59840" cy="55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200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i="1" lang="en-US" sz="1600" spc="-1" strike="noStrike">
                  <a:solidFill>
                    <a:srgbClr val="0066b3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0"/>
                </a:srgbClr>
              </a:gs>
              <a:gs pos="100000">
                <a:srgbClr val="00ebf8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0066b3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0"/>
                </a:srgbClr>
              </a:gs>
              <a:gs pos="100000">
                <a:srgbClr val="009be5">
                  <a:alpha val="3333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0066b3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-19080" y="203040"/>
            <a:ext cx="9175680" cy="642960"/>
            <a:chOff x="-19080" y="203040"/>
            <a:chExt cx="9175680" cy="642960"/>
          </a:xfrm>
        </p:grpSpPr>
        <p:grpSp>
          <p:nvGrpSpPr>
            <p:cNvPr id="53" name=""/>
            <p:cNvGrpSpPr/>
            <p:nvPr/>
          </p:nvGrpSpPr>
          <p:grpSpPr>
            <a:xfrm>
              <a:off x="-19080" y="203040"/>
              <a:ext cx="9158400" cy="642960"/>
              <a:chOff x="-19080" y="203040"/>
              <a:chExt cx="9158400" cy="642960"/>
            </a:xfrm>
          </p:grpSpPr>
          <p:pic>
            <p:nvPicPr>
              <p:cNvPr id="5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6080" cy="64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20000">
                <a:off x="-18720" y="479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i="1" lang="en-US" sz="1600" spc="-1" strike="noStrike">
                  <a:solidFill>
                    <a:srgbClr val="0066b3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-19080" y="247680"/>
              <a:ext cx="9175680" cy="557280"/>
              <a:chOff x="-19080" y="247680"/>
              <a:chExt cx="9175680" cy="557280"/>
            </a:xfrm>
          </p:grpSpPr>
          <p:pic>
            <p:nvPicPr>
              <p:cNvPr id="5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59840" cy="55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200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i="1" lang="en-US" sz="1600" spc="-1" strike="noStrike">
                  <a:solidFill>
                    <a:srgbClr val="0066b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6840" y="1935000"/>
            <a:ext cx="822492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i="1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0066b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7924680" y="6356160"/>
            <a:ext cx="75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i="1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243DE7-F92F-4FAB-AD54-4500BB267B0E}" type="slidenum">
              <a:rPr b="0" i="1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0"/>
                </a:srgbClr>
              </a:gs>
              <a:gs pos="100000">
                <a:srgbClr val="00ebf8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0066b3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0"/>
                </a:srgbClr>
              </a:gs>
              <a:gs pos="100000">
                <a:srgbClr val="009be5">
                  <a:alpha val="3333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0066b3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9080" y="203040"/>
            <a:ext cx="9175680" cy="642960"/>
            <a:chOff x="-19080" y="203040"/>
            <a:chExt cx="9175680" cy="642960"/>
          </a:xfrm>
        </p:grpSpPr>
        <p:grpSp>
          <p:nvGrpSpPr>
            <p:cNvPr id="103" name=""/>
            <p:cNvGrpSpPr/>
            <p:nvPr/>
          </p:nvGrpSpPr>
          <p:grpSpPr>
            <a:xfrm>
              <a:off x="-19080" y="203040"/>
              <a:ext cx="9158400" cy="642960"/>
              <a:chOff x="-19080" y="203040"/>
              <a:chExt cx="9158400" cy="642960"/>
            </a:xfrm>
          </p:grpSpPr>
          <p:pic>
            <p:nvPicPr>
              <p:cNvPr id="10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6080" cy="64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20000">
                <a:off x="-18720" y="479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i="1" lang="en-US" sz="1600" spc="-1" strike="noStrike">
                  <a:solidFill>
                    <a:srgbClr val="0066b3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-19080" y="247680"/>
              <a:ext cx="9175680" cy="557280"/>
              <a:chOff x="-19080" y="247680"/>
              <a:chExt cx="9175680" cy="557280"/>
            </a:xfrm>
          </p:grpSpPr>
          <p:pic>
            <p:nvPicPr>
              <p:cNvPr id="10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59840" cy="55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200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i="1" lang="en-US" sz="1600" spc="-1" strike="noStrike">
                  <a:solidFill>
                    <a:srgbClr val="0066b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6840" y="1935000"/>
            <a:ext cx="822492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5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i="1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0066b3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6"/>
          </p:nvPr>
        </p:nvSpPr>
        <p:spPr>
          <a:xfrm>
            <a:off x="7924680" y="6356160"/>
            <a:ext cx="75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i="1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163828-8DC6-4A3D-83B5-725AA50DD8C6}" type="slidenum">
              <a:rPr b="0" i="1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 flipV="1" rot="420000">
            <a:off x="316404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0066b3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 rot="420000">
            <a:off x="7999200" y="5358960"/>
            <a:ext cx="155520" cy="155520"/>
          </a:xfrm>
          <a:prstGeom prst="rtTriangle">
            <a:avLst/>
          </a:prstGeom>
          <a:noFill/>
          <a:ln cap="sq"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i="1" lang="en-US" sz="1600" spc="-1" strike="noStrike">
              <a:solidFill>
                <a:srgbClr val="0066b3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-9000" y="581400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0"/>
                </a:srgbClr>
              </a:gs>
              <a:gs pos="100000">
                <a:srgbClr val="00ebf8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0066b3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381560" y="621756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0"/>
                </a:srgbClr>
              </a:gs>
              <a:gs pos="100000">
                <a:srgbClr val="009be5">
                  <a:alpha val="3333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0066b3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6840" y="1935000"/>
            <a:ext cx="822492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7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i="1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0066b3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sldNum" idx="8"/>
          </p:nvPr>
        </p:nvSpPr>
        <p:spPr>
          <a:xfrm>
            <a:off x="8077320" y="6356160"/>
            <a:ext cx="60480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i="1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E7B4E6-37D6-48D7-B0B3-EBDEFC5E44F8}" type="slidenum">
              <a:rPr b="0" i="1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3602160" y="12600"/>
            <a:ext cx="5127480" cy="19684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572000" y="5516640"/>
            <a:ext cx="3672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anchor="t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Constantia"/>
                <a:ea typeface="WenQuanYi Micro Hei"/>
              </a:rPr>
              <a:t>Презентация для родителей</a:t>
            </a:r>
            <a:endParaRPr b="0" i="1" lang="en-US" sz="2200" spc="-1" strike="noStrike">
              <a:solidFill>
                <a:srgbClr val="0066b3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539640" y="692280"/>
            <a:ext cx="820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5000" spc="-1" strike="noStrike">
                <a:solidFill>
                  <a:srgbClr val="04617b"/>
                </a:solidFill>
                <a:latin typeface="Calibri"/>
                <a:ea typeface="WenQuanYi Micro Hei"/>
              </a:rPr>
              <a:t>Доступность</a:t>
            </a:r>
            <a:endParaRPr b="0" i="1" lang="en-US" sz="5000" spc="-1" strike="noStrike">
              <a:solidFill>
                <a:srgbClr val="0066b3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8360" y="2276640"/>
            <a:ext cx="820728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68200" indent="-2682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  <a:ea typeface="WenQuanYi Micro Hei"/>
              </a:rPr>
              <a:t>Подключение и дальнейшее участие в проекте абсолютно бесплатны;</a:t>
            </a:r>
            <a:endParaRPr b="0" i="1" lang="en-US" sz="2600" spc="-1" strike="noStrike">
              <a:solidFill>
                <a:srgbClr val="0066b3"/>
              </a:solidFill>
              <a:latin typeface="Times New Roman"/>
            </a:endParaRPr>
          </a:p>
          <a:p>
            <a:pPr marL="268200" indent="-2682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  <a:ea typeface="WenQuanYi Micro Hei"/>
              </a:rPr>
              <a:t>Интерфейсы легки в освоении и интуитивно понятны даже для начинающих пользователей ПК;</a:t>
            </a:r>
            <a:endParaRPr b="0" i="1" lang="en-US" sz="2600" spc="-1" strike="noStrike">
              <a:solidFill>
                <a:srgbClr val="0066b3"/>
              </a:solidFill>
              <a:latin typeface="Times New Roman"/>
            </a:endParaRPr>
          </a:p>
          <a:p>
            <a:pPr marL="268200" indent="-2682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  <a:ea typeface="WenQuanYi Micro Hei"/>
              </a:rPr>
              <a:t>Для работы с проектом необходим только компьютер с доступом в Интернет. Установка дополнительного программного обеспечения не требуется;</a:t>
            </a:r>
            <a:endParaRPr b="0" i="1" lang="en-US" sz="2600" spc="-1" strike="noStrike">
              <a:solidFill>
                <a:srgbClr val="0066b3"/>
              </a:solidFill>
              <a:latin typeface="Times New Roman"/>
            </a:endParaRPr>
          </a:p>
          <a:p>
            <a:pPr marL="268200" indent="-2682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  <a:ea typeface="WenQuanYi Micro Hei"/>
              </a:rPr>
              <a:t>Возможно СМС-оповещение.</a:t>
            </a:r>
            <a:endParaRPr b="0" i="1" lang="en-US" sz="2600" spc="-1" strike="noStrike">
              <a:solidFill>
                <a:srgbClr val="0066b3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295280" y="1944720"/>
            <a:ext cx="7128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66b3"/>
                </a:solidFill>
                <a:latin typeface="Times New Roman"/>
              </a:rPr>
              <a:t>Отправка письма в системе   Сетевой Город. Образование </a:t>
            </a:r>
            <a:endParaRPr b="0" i="1" lang="en-US" sz="1600" spc="-1" strike="noStrike">
              <a:solidFill>
                <a:srgbClr val="0066b3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0" y="263520"/>
            <a:ext cx="9144000" cy="509436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368360" y="5616720"/>
            <a:ext cx="702324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66b3"/>
                </a:solidFill>
                <a:latin typeface="Times New Roman"/>
              </a:rPr>
              <a:t>После входа в систему, попадаем на главную страницу, чтобы войти в почту,</a:t>
            </a:r>
            <a:endParaRPr b="0" i="1" lang="en-US" sz="1600" spc="-1" strike="noStrike">
              <a:solidFill>
                <a:srgbClr val="0066b3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66b3"/>
                </a:solidFill>
                <a:latin typeface="Times New Roman"/>
              </a:rPr>
              <a:t> </a:t>
            </a:r>
            <a:r>
              <a:rPr b="0" i="1" lang="ru-RU" sz="1600" spc="-1" strike="noStrike">
                <a:solidFill>
                  <a:srgbClr val="0066b3"/>
                </a:solidFill>
                <a:latin typeface="Times New Roman"/>
              </a:rPr>
              <a:t>нажимаем на значок конверта в правом верхнем углу</a:t>
            </a:r>
            <a:endParaRPr b="0" i="1" lang="en-US" sz="1600" spc="-1" strike="noStrike">
              <a:solidFill>
                <a:srgbClr val="0066b3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079640" y="5400720"/>
            <a:ext cx="7488000" cy="1079280"/>
          </a:xfrm>
          <a:prstGeom prst="ellipse">
            <a:avLst/>
          </a:prstGeom>
          <a:noFill/>
          <a:ln w="36000">
            <a:solidFill>
              <a:srgbClr val="ed1c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0066b3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6624720" y="1579320"/>
            <a:ext cx="1871640" cy="3825720"/>
          </a:xfrm>
          <a:prstGeom prst="line">
            <a:avLst/>
          </a:prstGeom>
          <a:ln w="36000">
            <a:solidFill>
              <a:srgbClr val="ed1c24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66b3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49400" y="274680"/>
            <a:ext cx="8756640" cy="49226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792000" y="5543640"/>
            <a:ext cx="74152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66b3"/>
                </a:solidFill>
                <a:latin typeface="Times New Roman"/>
              </a:rPr>
              <a:t>После того, как нажали на конверт, откроется окно «Отправить сообщение», в нем мы должны выбрать адресата, для этого надо нажать на значок «Список», напротив строки «Кому».</a:t>
            </a:r>
            <a:endParaRPr b="0" i="1" lang="en-US" sz="1600" spc="-1" strike="noStrike">
              <a:solidFill>
                <a:srgbClr val="0066b3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03280" y="5197320"/>
            <a:ext cx="7704000" cy="1354320"/>
          </a:xfrm>
          <a:prstGeom prst="ellipse">
            <a:avLst/>
          </a:prstGeom>
          <a:noFill/>
          <a:ln w="36000">
            <a:solidFill>
              <a:srgbClr val="ed1c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0066b3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6480000" y="1434600"/>
            <a:ext cx="648000" cy="3767400"/>
          </a:xfrm>
          <a:prstGeom prst="line">
            <a:avLst/>
          </a:prstGeom>
          <a:ln w="36000">
            <a:solidFill>
              <a:srgbClr val="ed1c24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66b3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0" y="-100080"/>
            <a:ext cx="9144000" cy="51404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863640" y="5616720"/>
            <a:ext cx="7559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66b3"/>
                </a:solidFill>
                <a:latin typeface="Times New Roman"/>
              </a:rPr>
              <a:t>В открывшемся окне, в поле «Группа» нужно выбрать группу «Учителя»</a:t>
            </a:r>
            <a:endParaRPr b="0" i="1" lang="en-US" sz="1600" spc="-1" strike="noStrike">
              <a:solidFill>
                <a:srgbClr val="0066b3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03280" y="5400720"/>
            <a:ext cx="8064360" cy="1152360"/>
          </a:xfrm>
          <a:prstGeom prst="ellipse">
            <a:avLst/>
          </a:prstGeom>
          <a:noFill/>
          <a:ln w="36000">
            <a:solidFill>
              <a:srgbClr val="ed1c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0066b3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658960" y="2011320"/>
            <a:ext cx="370080" cy="3394080"/>
          </a:xfrm>
          <a:prstGeom prst="line">
            <a:avLst/>
          </a:prstGeom>
          <a:ln w="36000">
            <a:solidFill>
              <a:srgbClr val="ed1c24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66b3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120600" y="6480"/>
            <a:ext cx="9018720" cy="51400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522440" y="5832360"/>
            <a:ext cx="51022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66b3"/>
                </a:solidFill>
                <a:latin typeface="Times New Roman"/>
              </a:rPr>
              <a:t> </a:t>
            </a:r>
            <a:r>
              <a:rPr b="0" i="1" lang="ru-RU" sz="1600" spc="-1" strike="noStrike">
                <a:solidFill>
                  <a:srgbClr val="0066b3"/>
                </a:solidFill>
                <a:latin typeface="Times New Roman"/>
              </a:rPr>
              <a:t>Выбрать из списка нужного вам учителя и нажать кнопку «Выбрать»</a:t>
            </a:r>
            <a:endParaRPr b="0" i="1" lang="en-US" sz="1600" spc="-1" strike="noStrike">
              <a:solidFill>
                <a:srgbClr val="0066b3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224000" y="5688000"/>
            <a:ext cx="5184720" cy="936720"/>
          </a:xfrm>
          <a:prstGeom prst="ellipse">
            <a:avLst/>
          </a:prstGeom>
          <a:noFill/>
          <a:ln w="36000">
            <a:solidFill>
              <a:srgbClr val="ed1c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0066b3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3018960" y="2874600"/>
            <a:ext cx="513000" cy="2817720"/>
          </a:xfrm>
          <a:prstGeom prst="line">
            <a:avLst/>
          </a:prstGeom>
          <a:ln w="36000">
            <a:solidFill>
              <a:srgbClr val="ed1c24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66b3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 flipV="1">
            <a:off x="2154240" y="4243320"/>
            <a:ext cx="1378080" cy="1449360"/>
          </a:xfrm>
          <a:prstGeom prst="line">
            <a:avLst/>
          </a:prstGeom>
          <a:ln w="36000">
            <a:solidFill>
              <a:srgbClr val="ed1c24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66b3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04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360360" y="5256360"/>
            <a:ext cx="88520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66b3"/>
                </a:solidFill>
                <a:latin typeface="Times New Roman"/>
              </a:rPr>
              <a:t>После нажатия кнопки «Выбрать», вы автоматически вернетесь в окно «Отправить сообщение»</a:t>
            </a:r>
            <a:endParaRPr b="0" i="1" lang="en-US" sz="1600" spc="-1" strike="noStrike">
              <a:solidFill>
                <a:srgbClr val="0066b3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66b3"/>
                </a:solidFill>
                <a:latin typeface="Times New Roman"/>
              </a:rPr>
              <a:t>В поле «Кому» вы увидите ФИО учителя, которого выбрали из списка (адресата письма).</a:t>
            </a:r>
            <a:endParaRPr b="0" i="1" lang="en-US" sz="1600" spc="-1" strike="noStrike">
              <a:solidFill>
                <a:srgbClr val="0066b3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87280" y="6191280"/>
            <a:ext cx="82342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66b3"/>
                </a:solidFill>
                <a:latin typeface="Times New Roman"/>
              </a:rPr>
              <a:t>В поле «Тема» введите тему письма , Фамилию, Имя и класс ученика как указанно в образце</a:t>
            </a:r>
            <a:endParaRPr b="0" i="1" lang="en-US" sz="1600" spc="-1" strike="noStrike">
              <a:solidFill>
                <a:srgbClr val="0066b3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44360" y="5040360"/>
            <a:ext cx="9072720" cy="1008000"/>
          </a:xfrm>
          <a:prstGeom prst="ellipse">
            <a:avLst/>
          </a:prstGeom>
          <a:noFill/>
          <a:ln w="36000">
            <a:solidFill>
              <a:srgbClr val="ed1c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0066b3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44360" y="6048360"/>
            <a:ext cx="8460000" cy="549360"/>
          </a:xfrm>
          <a:prstGeom prst="ellipse">
            <a:avLst/>
          </a:prstGeom>
          <a:noFill/>
          <a:ln w="36000">
            <a:solidFill>
              <a:srgbClr val="ed1c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0066b3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5472000" y="1218960"/>
            <a:ext cx="287280" cy="3825720"/>
          </a:xfrm>
          <a:prstGeom prst="line">
            <a:avLst/>
          </a:prstGeom>
          <a:ln w="36000">
            <a:solidFill>
              <a:srgbClr val="ed1c24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66b3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863640" y="1866600"/>
            <a:ext cx="2879640" cy="4329000"/>
          </a:xfrm>
          <a:prstGeom prst="line">
            <a:avLst/>
          </a:prstGeom>
          <a:ln w="36000">
            <a:solidFill>
              <a:srgbClr val="ed1c24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66b3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36360" y="6480"/>
            <a:ext cx="9144000" cy="51400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41400" y="5616720"/>
            <a:ext cx="90421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66b3"/>
                </a:solidFill>
                <a:latin typeface="Times New Roman"/>
              </a:rPr>
              <a:t>Если  в процессе выполнения домашнего задания был создан какой либо - файл (текстовый документ,</a:t>
            </a:r>
            <a:endParaRPr b="0" i="1" lang="en-US" sz="1600" spc="-1" strike="noStrike">
              <a:solidFill>
                <a:srgbClr val="0066b3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66b3"/>
                </a:solidFill>
                <a:latin typeface="Times New Roman"/>
              </a:rPr>
              <a:t>презентация, картинка, схема, фото или архив файлов), то можно отправить эти файлы учителю,</a:t>
            </a:r>
            <a:endParaRPr b="0" i="1" lang="en-US" sz="1600" spc="-1" strike="noStrike">
              <a:solidFill>
                <a:srgbClr val="0066b3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66b3"/>
                </a:solidFill>
                <a:latin typeface="Times New Roman"/>
              </a:rPr>
              <a:t>нажав кнопку «Прикрепить файл».</a:t>
            </a:r>
            <a:endParaRPr b="0" i="1" lang="en-US" sz="1600" spc="-1" strike="noStrike">
              <a:solidFill>
                <a:srgbClr val="0066b3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-144360" y="5184720"/>
            <a:ext cx="9431280" cy="1673280"/>
          </a:xfrm>
          <a:prstGeom prst="ellipse">
            <a:avLst/>
          </a:prstGeom>
          <a:noFill/>
          <a:ln w="36000">
            <a:solidFill>
              <a:srgbClr val="ed1c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0066b3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2370240" y="4100040"/>
            <a:ext cx="1162080" cy="1089000"/>
          </a:xfrm>
          <a:prstGeom prst="line">
            <a:avLst/>
          </a:prstGeom>
          <a:ln w="36000">
            <a:solidFill>
              <a:srgbClr val="ed1c24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66b3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-4680" y="-66600"/>
            <a:ext cx="9144000" cy="51400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720720" y="5472000"/>
            <a:ext cx="71168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66b3"/>
                </a:solidFill>
                <a:latin typeface="Times New Roman"/>
              </a:rPr>
              <a:t>В открывшемся окне «Прикрепить файл» нажимаем кнопку «Выбрать файл».</a:t>
            </a:r>
            <a:endParaRPr b="0" i="1" lang="en-US" sz="1600" spc="-1" strike="noStrike">
              <a:solidFill>
                <a:srgbClr val="0066b3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31640" y="5327640"/>
            <a:ext cx="7920360" cy="576360"/>
          </a:xfrm>
          <a:prstGeom prst="ellipse">
            <a:avLst/>
          </a:prstGeom>
          <a:noFill/>
          <a:ln w="36000">
            <a:solidFill>
              <a:srgbClr val="ed1c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0066b3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3450960" y="1579680"/>
            <a:ext cx="1089000" cy="3752640"/>
          </a:xfrm>
          <a:prstGeom prst="line">
            <a:avLst/>
          </a:prstGeom>
          <a:ln w="36000">
            <a:solidFill>
              <a:srgbClr val="ed1c24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66b3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-4680" y="115920"/>
            <a:ext cx="9144000" cy="514044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1008000" y="5759280"/>
            <a:ext cx="768996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66b3"/>
                </a:solidFill>
                <a:latin typeface="Times New Roman"/>
                <a:ea typeface="Arial"/>
              </a:rPr>
              <a:t>После нажатия кнопки </a:t>
            </a:r>
            <a:r>
              <a:rPr b="0" i="1" lang="ru-RU" sz="1600" spc="-1" strike="noStrike">
                <a:solidFill>
                  <a:srgbClr val="0066b3"/>
                </a:solidFill>
                <a:latin typeface="Times New Roman"/>
              </a:rPr>
              <a:t>«Выбрать файл» выберите нужный файл с устройства (ПК,</a:t>
            </a:r>
            <a:endParaRPr b="0" i="1" lang="en-US" sz="1600" spc="-1" strike="noStrike">
              <a:solidFill>
                <a:srgbClr val="0066b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66b3"/>
                </a:solidFill>
                <a:latin typeface="Times New Roman"/>
              </a:rPr>
              <a:t>ноутбука, планшета, мобильного телефона) и нажмите кнопку «Открыть».</a:t>
            </a:r>
            <a:endParaRPr b="0" i="1" lang="en-US" sz="1600" spc="-1" strike="noStrike">
              <a:solidFill>
                <a:srgbClr val="0066b3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63640" y="5472000"/>
            <a:ext cx="8136000" cy="1152720"/>
          </a:xfrm>
          <a:prstGeom prst="ellipse">
            <a:avLst/>
          </a:prstGeom>
          <a:noFill/>
          <a:ln w="36000">
            <a:solidFill>
              <a:srgbClr val="ed1c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0066b3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4892760" y="3379680"/>
            <a:ext cx="296640" cy="2097360"/>
          </a:xfrm>
          <a:prstGeom prst="line">
            <a:avLst/>
          </a:prstGeom>
          <a:ln w="36000">
            <a:solidFill>
              <a:srgbClr val="ed1c24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66b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68360" y="692280"/>
            <a:ext cx="82072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5000" spc="-1" strike="noStrike">
                <a:solidFill>
                  <a:srgbClr val="04617b"/>
                </a:solidFill>
                <a:latin typeface="Calibri"/>
                <a:ea typeface="WenQuanYi Micro Hei"/>
              </a:rPr>
              <a:t>Единая сеть </a:t>
            </a:r>
            <a:br>
              <a:rPr sz="5000"/>
            </a:br>
            <a:r>
              <a:rPr b="0" i="1" lang="ru-RU" sz="5000" spc="-1" strike="noStrike">
                <a:solidFill>
                  <a:srgbClr val="04617b"/>
                </a:solidFill>
                <a:latin typeface="Calibri"/>
                <a:ea typeface="WenQuanYi Micro Hei"/>
              </a:rPr>
              <a:t>Сетевой Город. Образование </a:t>
            </a:r>
            <a:endParaRPr b="0" i="1" lang="en-US" sz="5000" spc="-1" strike="noStrike">
              <a:solidFill>
                <a:srgbClr val="0066b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68360" y="2708280"/>
            <a:ext cx="820728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  <a:ea typeface="WenQuanYi Micro Hei"/>
              </a:rPr>
              <a:t>Сетевой Город. Образование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  <a:ea typeface="WenQuanYi Micro Hei"/>
              </a:rPr>
              <a:t>– комплексная программная информационная система, объединяющая в единую сеть школы и органы управления образования в пределах города, сельского или городского района (округа). Тем самым формируется единое городское информационное образовательное пространство.</a:t>
            </a:r>
            <a:endParaRPr b="0" i="1" lang="en-US" sz="2600" spc="-1" strike="noStrike">
              <a:solidFill>
                <a:srgbClr val="0066b3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716360" y="11592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92d050"/>
                </a:solidFill>
                <a:latin typeface="Constantia"/>
              </a:rPr>
              <a:t>http://</a:t>
            </a:r>
            <a:r>
              <a:rPr b="0" i="1" lang="ru-RU" sz="2400" spc="-1" strike="noStrike">
                <a:solidFill>
                  <a:srgbClr val="92d050"/>
                </a:solidFill>
                <a:latin typeface="Constantia"/>
              </a:rPr>
              <a:t>81.177.100.45</a:t>
            </a:r>
            <a:endParaRPr b="0" i="1" lang="en-US" sz="2400" spc="-1" strike="noStrike">
              <a:solidFill>
                <a:srgbClr val="0066b3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-4680" y="30240"/>
            <a:ext cx="9144000" cy="514008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1309680" y="5759280"/>
            <a:ext cx="78343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66b3"/>
                </a:solidFill>
                <a:latin typeface="Times New Roman"/>
              </a:rPr>
              <a:t>После того, как вы выберете нужный файл, его имя появится в поле напротив кнопки </a:t>
            </a:r>
            <a:endParaRPr b="0" i="1" lang="en-US" sz="1600" spc="-1" strike="noStrike">
              <a:solidFill>
                <a:srgbClr val="0066b3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66b3"/>
                </a:solidFill>
                <a:latin typeface="Times New Roman"/>
              </a:rPr>
              <a:t>«Выбрать файл », затем нужно нажать кнопку «Прикрепить файл».</a:t>
            </a:r>
            <a:endParaRPr b="0" i="1" lang="en-US" sz="1600" spc="-1" strike="noStrike">
              <a:solidFill>
                <a:srgbClr val="0066b3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63640" y="5472000"/>
            <a:ext cx="8280360" cy="1224000"/>
          </a:xfrm>
          <a:prstGeom prst="ellipse">
            <a:avLst/>
          </a:prstGeom>
          <a:noFill/>
          <a:ln w="36000">
            <a:solidFill>
              <a:srgbClr val="ed1c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0066b3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 flipV="1">
            <a:off x="5106960" y="2155680"/>
            <a:ext cx="225360" cy="3321360"/>
          </a:xfrm>
          <a:prstGeom prst="line">
            <a:avLst/>
          </a:prstGeom>
          <a:ln w="36000">
            <a:solidFill>
              <a:srgbClr val="ed1c24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66b3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31680" y="0"/>
            <a:ext cx="9144000" cy="514044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576360" y="5327640"/>
            <a:ext cx="72198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66b3"/>
                </a:solidFill>
                <a:latin typeface="Times New Roman"/>
              </a:rPr>
              <a:t>Появится  сообщение о успешном прикреплении файла. Нажмите кнопку «ОК».</a:t>
            </a:r>
            <a:endParaRPr b="0" i="1" lang="en-US" sz="1600" spc="-1" strike="noStrike">
              <a:solidFill>
                <a:srgbClr val="0066b3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31640" y="5140440"/>
            <a:ext cx="7488360" cy="763560"/>
          </a:xfrm>
          <a:prstGeom prst="ellipse">
            <a:avLst/>
          </a:prstGeom>
          <a:noFill/>
          <a:ln w="36000">
            <a:solidFill>
              <a:srgbClr val="ed1c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0066b3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4392720" y="1866960"/>
            <a:ext cx="1871640" cy="3278160"/>
          </a:xfrm>
          <a:prstGeom prst="line">
            <a:avLst/>
          </a:prstGeom>
          <a:ln w="36000">
            <a:solidFill>
              <a:srgbClr val="ed1c24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66b3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0" y="-54000"/>
            <a:ext cx="9144000" cy="514044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360360" y="5904000"/>
            <a:ext cx="86025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66b3"/>
                </a:solidFill>
                <a:latin typeface="Times New Roman"/>
              </a:rPr>
              <a:t>Чтобы увидеть, что учитель прочитал ваше письмо, поставьте «галочку» напротив строки </a:t>
            </a:r>
            <a:endParaRPr b="0" i="1" lang="en-US" sz="1600" spc="-1" strike="noStrike">
              <a:solidFill>
                <a:srgbClr val="0066b3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66b3"/>
                </a:solidFill>
                <a:latin typeface="Times New Roman"/>
              </a:rPr>
              <a:t>«Уведомить о прочтении», когда учитель прочитает письмо, вам на почту придёт сообщение, </a:t>
            </a:r>
            <a:endParaRPr b="0" i="1" lang="en-US" sz="1600" spc="-1" strike="noStrike">
              <a:solidFill>
                <a:srgbClr val="0066b3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66b3"/>
                </a:solidFill>
                <a:latin typeface="Times New Roman"/>
              </a:rPr>
              <a:t>что ваше письмо прочитано. </a:t>
            </a:r>
            <a:endParaRPr b="0" i="1" lang="en-US" sz="1600" spc="-1" strike="noStrike">
              <a:solidFill>
                <a:srgbClr val="0066b3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79640" y="5157720"/>
            <a:ext cx="72468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66b3"/>
                </a:solidFill>
                <a:latin typeface="Times New Roman"/>
              </a:rPr>
              <a:t>Имя прикрепленного вами файла будет указано под кнопкой «Прикрепить файл»</a:t>
            </a:r>
            <a:endParaRPr b="0" i="1" lang="en-US" sz="1600" spc="-1" strike="noStrike">
              <a:solidFill>
                <a:srgbClr val="0066b3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7640" y="5086440"/>
            <a:ext cx="7704360" cy="601560"/>
          </a:xfrm>
          <a:prstGeom prst="ellipse">
            <a:avLst/>
          </a:prstGeom>
          <a:noFill/>
          <a:ln w="36000">
            <a:solidFill>
              <a:srgbClr val="ed1c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0066b3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 flipV="1">
            <a:off x="2010960" y="4171680"/>
            <a:ext cx="297000" cy="990360"/>
          </a:xfrm>
          <a:prstGeom prst="line">
            <a:avLst/>
          </a:prstGeom>
          <a:ln w="36000">
            <a:solidFill>
              <a:srgbClr val="ed1c24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66b3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5688000"/>
            <a:ext cx="9072720" cy="1170000"/>
          </a:xfrm>
          <a:prstGeom prst="ellipse">
            <a:avLst/>
          </a:prstGeom>
          <a:noFill/>
          <a:ln w="36000">
            <a:solidFill>
              <a:srgbClr val="ed1c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0066b3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3666960" y="2011320"/>
            <a:ext cx="4113360" cy="3897360"/>
          </a:xfrm>
          <a:prstGeom prst="line">
            <a:avLst/>
          </a:prstGeom>
          <a:ln w="36000">
            <a:solidFill>
              <a:srgbClr val="ed1c24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66b3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0" y="187200"/>
            <a:ext cx="9144000" cy="51404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360360" y="5472000"/>
            <a:ext cx="64501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66b3"/>
                </a:solidFill>
                <a:latin typeface="Times New Roman"/>
              </a:rPr>
              <a:t>В этом поле вы можете написать сообщение учителю (задать вопрос)</a:t>
            </a:r>
            <a:endParaRPr b="0" i="1" lang="en-US" sz="1600" spc="-1" strike="noStrike">
              <a:solidFill>
                <a:srgbClr val="0066b3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44360" y="5327640"/>
            <a:ext cx="6624720" cy="647640"/>
          </a:xfrm>
          <a:prstGeom prst="ellipse">
            <a:avLst/>
          </a:prstGeom>
          <a:noFill/>
          <a:ln w="36000">
            <a:solidFill>
              <a:srgbClr val="ed1c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0066b3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2298600" y="2946240"/>
            <a:ext cx="1378080" cy="2386080"/>
          </a:xfrm>
          <a:prstGeom prst="line">
            <a:avLst/>
          </a:prstGeom>
          <a:ln w="36000">
            <a:solidFill>
              <a:srgbClr val="ed1c24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66b3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03280" y="6335640"/>
            <a:ext cx="53388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66b3"/>
                </a:solidFill>
                <a:latin typeface="Times New Roman"/>
              </a:rPr>
              <a:t>Чтобы отправить письмо нажмите кнопку «Отправить»</a:t>
            </a:r>
            <a:endParaRPr b="0" i="1" lang="en-US" sz="1600" spc="-1" strike="noStrike">
              <a:solidFill>
                <a:srgbClr val="0066b3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7280" y="6191280"/>
            <a:ext cx="5759640" cy="666720"/>
          </a:xfrm>
          <a:prstGeom prst="ellipse">
            <a:avLst/>
          </a:prstGeom>
          <a:noFill/>
          <a:ln w="36000">
            <a:solidFill>
              <a:srgbClr val="ed1c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0066b3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2084040" y="1218960"/>
            <a:ext cx="3105000" cy="5121000"/>
          </a:xfrm>
          <a:prstGeom prst="line">
            <a:avLst/>
          </a:prstGeom>
          <a:ln w="36000">
            <a:solidFill>
              <a:srgbClr val="ed1c24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66b3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0" y="71280"/>
            <a:ext cx="9144000" cy="514044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863640" y="5975280"/>
            <a:ext cx="5543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66b3"/>
                </a:solidFill>
                <a:latin typeface="Times New Roman"/>
              </a:rPr>
              <a:t>После это нажмите кнопку «ОК». Ваше письмо отправлено!</a:t>
            </a:r>
            <a:endParaRPr b="0" i="1" lang="en-US" sz="1600" spc="-1" strike="noStrike">
              <a:solidFill>
                <a:srgbClr val="0066b3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92000" y="5759280"/>
            <a:ext cx="5832720" cy="863640"/>
          </a:xfrm>
          <a:prstGeom prst="ellipse">
            <a:avLst/>
          </a:prstGeom>
          <a:noFill/>
          <a:ln w="36000">
            <a:solidFill>
              <a:srgbClr val="ed1c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0066b3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3743280" y="2010960"/>
            <a:ext cx="2303640" cy="3753000"/>
          </a:xfrm>
          <a:prstGeom prst="line">
            <a:avLst/>
          </a:prstGeom>
          <a:ln w="36000">
            <a:solidFill>
              <a:srgbClr val="ed1c24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0066b3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68360" y="692280"/>
            <a:ext cx="8207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5000" spc="-1" strike="noStrike">
                <a:solidFill>
                  <a:srgbClr val="04617b"/>
                </a:solidFill>
                <a:latin typeface="Calibri"/>
                <a:ea typeface="WenQuanYi Micro Hei"/>
              </a:rPr>
              <a:t>Что вы получаете? </a:t>
            </a:r>
            <a:endParaRPr b="0" i="1" lang="en-US" sz="5000" spc="-1" strike="noStrike">
              <a:solidFill>
                <a:srgbClr val="0066b3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68360" y="2324160"/>
            <a:ext cx="8207280" cy="42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68200" indent="-268200" algn="just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  <a:ea typeface="WenQuanYi Micro Hei"/>
              </a:rPr>
              <a:t>Постоянный доступ к полной и актуальной информации об успеваемости, расписании, домашних заданиях ребенка; </a:t>
            </a:r>
            <a:endParaRPr b="0" i="1" lang="en-US" sz="2600" spc="-1" strike="noStrike">
              <a:solidFill>
                <a:srgbClr val="0066b3"/>
              </a:solidFill>
              <a:latin typeface="Times New Roman"/>
            </a:endParaRPr>
          </a:p>
          <a:p>
            <a:pPr marL="272880" indent="-2682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i="1" lang="en-US" sz="2600" spc="-1" strike="noStrike">
              <a:solidFill>
                <a:srgbClr val="0066b3"/>
              </a:solidFill>
              <a:latin typeface="Times New Roman"/>
            </a:endParaRPr>
          </a:p>
          <a:p>
            <a:pPr marL="268200" indent="-268200" algn="just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  <a:ea typeface="WenQuanYi Micro Hei"/>
              </a:rPr>
              <a:t>Информированность и возможность участия в жизнедеятельности школы; </a:t>
            </a:r>
            <a:endParaRPr b="0" i="1" lang="en-US" sz="2600" spc="-1" strike="noStrike">
              <a:solidFill>
                <a:srgbClr val="0066b3"/>
              </a:solidFill>
              <a:latin typeface="Times New Roman"/>
            </a:endParaRPr>
          </a:p>
          <a:p>
            <a:pPr marL="272880" indent="-2682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i="1" lang="en-US" sz="2600" spc="-1" strike="noStrike">
              <a:solidFill>
                <a:srgbClr val="0066b3"/>
              </a:solidFill>
              <a:latin typeface="Times New Roman"/>
            </a:endParaRPr>
          </a:p>
          <a:p>
            <a:pPr marL="268200" indent="-268200" algn="just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  <a:ea typeface="WenQuanYi Micro Hei"/>
              </a:rPr>
              <a:t>Персональный дистанционный канал связи с любым педагогом школы.</a:t>
            </a:r>
            <a:endParaRPr b="0" i="1" lang="en-US" sz="2600" spc="-1" strike="noStrike">
              <a:solidFill>
                <a:srgbClr val="0066b3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716360" y="11592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92d050"/>
                </a:solidFill>
                <a:latin typeface="Constantia"/>
              </a:rPr>
              <a:t>http://</a:t>
            </a:r>
            <a:r>
              <a:rPr b="0" i="1" lang="ru-RU" sz="2400" spc="-1" strike="noStrike">
                <a:solidFill>
                  <a:srgbClr val="92d050"/>
                </a:solidFill>
                <a:latin typeface="Constantia"/>
              </a:rPr>
              <a:t>81.177.100.45</a:t>
            </a:r>
            <a:endParaRPr b="0" i="1" lang="en-US" sz="2400" spc="-1" strike="noStrike">
              <a:solidFill>
                <a:srgbClr val="0066b3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411280" y="3284640"/>
            <a:ext cx="3529080" cy="504720"/>
          </a:xfrm>
          <a:prstGeom prst="ellipse">
            <a:avLst/>
          </a:prstGeom>
          <a:noFill/>
          <a:ln cap="sq"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0066b3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411280" y="3284640"/>
            <a:ext cx="3600720" cy="504720"/>
          </a:xfrm>
          <a:prstGeom prst="ellipse">
            <a:avLst/>
          </a:prstGeom>
          <a:noFill/>
          <a:ln cap="sq"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0066b3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1257480" y="0"/>
            <a:ext cx="5449680" cy="67420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340000" y="3006720"/>
            <a:ext cx="3672000" cy="782640"/>
          </a:xfrm>
          <a:prstGeom prst="ellipse">
            <a:avLst/>
          </a:pr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0066b3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1319040" y="0"/>
            <a:ext cx="5989680" cy="67341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2340000" y="3213000"/>
            <a:ext cx="4103640" cy="647640"/>
          </a:xfrm>
          <a:prstGeom prst="ellipse">
            <a:avLst/>
          </a:pr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0066b3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1476360" y="449280"/>
            <a:ext cx="5479920" cy="64087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2340000" y="4005360"/>
            <a:ext cx="3887640" cy="647640"/>
          </a:xfrm>
          <a:prstGeom prst="ellipse">
            <a:avLst/>
          </a:pr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0066b3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1403280" y="115920"/>
            <a:ext cx="5187960" cy="65595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124000" y="3429000"/>
            <a:ext cx="3672000" cy="720720"/>
          </a:xfrm>
          <a:prstGeom prst="ellipse">
            <a:avLst/>
          </a:pr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0066b3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1176480" y="168120"/>
            <a:ext cx="5627520" cy="65836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2195640" y="4437000"/>
            <a:ext cx="3384360" cy="576360"/>
          </a:xfrm>
          <a:prstGeom prst="ellipse">
            <a:avLst/>
          </a:pr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0066b3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366920" y="299880"/>
            <a:ext cx="5365800" cy="63691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050920" y="4941720"/>
            <a:ext cx="3384720" cy="574920"/>
          </a:xfrm>
          <a:prstGeom prst="ellipse">
            <a:avLst/>
          </a:pr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600" spc="-1" strike="noStrike">
              <a:solidFill>
                <a:srgbClr val="0066b3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8T16:59:44Z</dcterms:created>
  <dc:creator>Пользователь Windows</dc:creator>
  <dc:description/>
  <dc:language>en-US</dc:language>
  <cp:lastModifiedBy/>
  <dcterms:modified xsi:type="dcterms:W3CDTF">2020-03-27T11:01:18Z</dcterms:modified>
  <cp:revision>28</cp:revision>
  <dc:subject/>
  <dc:title>Сетевой город. Образование</dc:title>
</cp:coreProperties>
</file>