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B783-2630-4CC9-A5DE-8E4BB8F1A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C135-8451-4D1D-8EDD-1296638E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5FB6-D03A-4C11-B174-82D6F3F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42AA-EB76-4B49-966B-2989C9806B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DA051-3D93-41F8-B8A0-6C71A75631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6AFE2-DE2F-45BF-A822-FB84CFBB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E1E6F-1635-4E77-A1B0-26EA2495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DCA97-9B71-424C-BA3D-C29311B5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BD8CD-EF3F-4644-B8FA-1F78B589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EFF57-A72D-450A-80AF-8C1D9330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98610-5459-4080-A3E8-DF3CDC1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ECBF-3A81-448F-8ACD-A6908507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FA716-591C-4B96-A057-B57D7654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823BB-145E-4EFD-9074-615D8EC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ACB45-9733-4235-853B-C0736152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4E34D-1CB8-4068-BFA7-240DFF2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34156-F7B0-4232-8451-AF5B2B44B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E61F-1B94-4124-997C-DD5CC3D8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E809-C52C-47F7-BD71-BF953EB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E858-3072-4F96-B586-779DFB76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F0275-00B8-4A34-9374-2AF91735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0EFEA-8A13-4CC5-8E57-1F57E845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9C83-71F6-46FE-9D16-4FBE8834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79B7-668D-4288-878A-B2F58F2D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8b8b8b"/>
                </a:solidFill>
                <a:latin typeface="Calibri"/>
              </a:rPr>
              <a:t>2.4.20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E48DE-9A91-4B9B-8DBF-785D98A80BA2}" type="slidenum">
              <a:rPr b="1" i="1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8b8b8b"/>
                </a:solidFill>
                <a:latin typeface="Calibri"/>
              </a:rPr>
              <a:t>2.4.20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1ECDF-6DF3-497C-897F-5CC8E55595AA}" type="slidenum">
              <a:rPr b="1" i="1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telecomdom.com/dlya-shkoly/rossiyskaya-elektronnaya-shkola-instruktsiya/" TargetMode="External"/><Relationship Id="rId2" Type="http://schemas.openxmlformats.org/officeDocument/2006/relationships/hyperlink" Target="https://telecomdom.com/dlya-shkoly/rossiyskaya-elektronnaya-shkola-instruktsiya/" TargetMode="External"/><Relationship Id="rId3" Type="http://schemas.openxmlformats.org/officeDocument/2006/relationships/hyperlink" Target="https://telecomdom.com/dlya-shkoly/rossiyskaya-elektronnaya-shkola-instruktsiya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masha@mail.ru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разовательные  ресурсы и учебные платформы, планируемые для использования в МБОУ «СОШ №22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с порталом Я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вторизуйтес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ведите свои данные. И выполняйте зад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. Выполнение задания по русскому языку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так дале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мечание . Задания можно выполнять и незарегистрированным пользователя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Работа с ресурсом Российская электронная школа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s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://telecomdom.com/dlya-shkoly/rossiyskaya-elektronnaya-shkola-instruktsiya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сылка для ученика с регистрацией. Указание. Пройдя по указанной ссылке, вы попадаете на данную страницу.  Внизу страницы находится пошаговая инструкция по работе с портал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42960" y="1643040"/>
            <a:ext cx="806940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2673360"/>
            <a:ext cx="8856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Зарегистрировать учащегося можно с помощью школьного 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учителя или самостоятельно. Регистрация при участии образовательного учреждения осуществляется по пригласительному коду, логину и паролю, которые выдаст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учитель. </a:t>
            </a:r>
            <a:endParaRPr b="1" i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63640" y="503280"/>
            <a:ext cx="71280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 зарегистрироваться ученику на платформе Учи.ру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4320" y="2879640"/>
            <a:ext cx="7826400" cy="3024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00360" y="216000"/>
            <a:ext cx="579888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 зарегистрироваться в личном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20760" y="687240"/>
            <a:ext cx="5295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бинете родителю школьника 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080" y="1285920"/>
            <a:ext cx="888192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ля  осуществления  родительского  контроля  за  прогрессом  ребёнка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360" y="1728720"/>
            <a:ext cx="7694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вторизоваться в личном кабинете можно по пригласительному коду от учителя или самостоятельно.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280" y="119160"/>
            <a:ext cx="8864640" cy="5352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16000" y="5543640"/>
            <a:ext cx="84963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огин -это ваша электронная почта  (например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asha@mail.ru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ароль придумываете самостоятельно (любой)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0280" y="-6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берите вашу возрастную категорию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280" y="968400"/>
            <a:ext cx="9025200" cy="5726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11640" y="2087640"/>
            <a:ext cx="936720" cy="1440"/>
          </a:xfrm>
          <a:prstGeom prst="line">
            <a:avLst/>
          </a:prstGeom>
          <a:ln w="936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11640" y="2303640"/>
            <a:ext cx="863640" cy="1440"/>
          </a:xfrm>
          <a:prstGeom prst="line">
            <a:avLst/>
          </a:prstGeom>
          <a:ln w="9360">
            <a:solidFill>
              <a:srgbClr val="ed1c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64000" y="2012760"/>
            <a:ext cx="720720" cy="438120"/>
          </a:xfrm>
          <a:prstGeom prst="line">
            <a:avLst/>
          </a:prstGeom>
          <a:ln w="936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900400" y="2228400"/>
            <a:ext cx="654120" cy="150840"/>
          </a:xfrm>
          <a:prstGeom prst="line">
            <a:avLst/>
          </a:prstGeom>
          <a:ln w="9360">
            <a:solidFill>
              <a:srgbClr val="ed1c2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" y="-87480"/>
            <a:ext cx="9144000" cy="552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3280" y="5904000"/>
            <a:ext cx="74152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р входа в роли Ученика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ыбираете нужный предмет и выполняете задания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00" y="-61920"/>
            <a:ext cx="9144000" cy="552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87640" y="3600360"/>
            <a:ext cx="792000" cy="216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55640" y="4535640"/>
            <a:ext cx="720720" cy="1443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28720" y="4680000"/>
            <a:ext cx="1800360" cy="216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83280" y="1800360"/>
            <a:ext cx="576360" cy="28728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3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360" y="5759280"/>
            <a:ext cx="885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р входа в роли Родитель</a:t>
            </a:r>
            <a:endParaRPr b="1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a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с Яндекс учебником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240680" cy="4526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31T18:29:58Z</dcterms:created>
  <dc:creator>user</dc:creator>
  <dc:description/>
  <dc:language>en-US</dc:language>
  <cp:lastModifiedBy/>
  <dcterms:modified xsi:type="dcterms:W3CDTF">2020-04-02T12:27:38Z</dcterms:modified>
  <cp:revision>7</cp:revision>
  <dc:subject/>
  <dc:title>Дистанционные ресурс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1</vt:r8>
  </property>
</Properties>
</file>